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1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49D-F713-4EA9-A1B7-951E2D4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443-EF47-436C-8D77-0A1FC4C4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B52-F9ED-49F9-B9A9-F87663E1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A1C-84D5-46BE-98BD-F7F42046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A79-67C9-4DA1-8ECD-435BA1EE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C97-FA95-4D64-8C80-8FB3F43A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867-C935-44DB-B726-37797EF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8FE-243F-426B-B32B-0AFAF49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820-FB96-41A7-9D2B-13740B7A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610-251C-42C8-B278-80E6D9B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4AD-8EBD-432E-84F6-6248936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0BA-764F-4FBC-A68D-982974E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22A-5374-49CA-9010-6DE0F50A88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ortancia del H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CITOCRO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Sistemas 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IOGLOB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Reserva de oxígeno en músculo esquelético y card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HEMOGLOB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Transporte de Oxígeno a los tej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GRADACION DE HEMOGLO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células del SRE: Hígado, bazo y médula ó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transporta al hígado unida a hapt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globina se degrada a aminoá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128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5839560" y="539568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GRADACION DEL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DEL S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Hb     Bilirru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HEPAT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 Conjug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TAPA INTESTI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ducción de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lirrubina y producció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estercobilin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4427640" y="1844640"/>
            <a:ext cx="360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EN EL  S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EGRADACION DEL HEM"/>
          <p:cNvPicPr/>
          <p:nvPr/>
        </p:nvPicPr>
        <p:blipFill>
          <a:blip r:embed="rId1">
            <a:lum contrast="26000"/>
          </a:blip>
          <a:srcRect l="0" t="5219" r="0" b="65652"/>
          <a:stretch/>
        </p:blipFill>
        <p:spPr>
          <a:xfrm>
            <a:off x="539640" y="1700280"/>
            <a:ext cx="7667640" cy="4338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211640" y="3500280"/>
            <a:ext cx="201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mooxi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3564000" y="5661000"/>
            <a:ext cx="1511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780000" y="2708280"/>
            <a:ext cx="9349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4500720" y="227664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443640" y="234936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492360" y="1700280"/>
            <a:ext cx="18003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971640" y="2565360"/>
            <a:ext cx="1871640" cy="6426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6084720" y="3933720"/>
            <a:ext cx="1582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uti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076720" y="595008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300720" y="5734080"/>
            <a:ext cx="187164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3564000" y="6093000"/>
            <a:ext cx="1512720" cy="54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724360" y="6192720"/>
            <a:ext cx="93672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521964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Conjugación de Bilirru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211640" y="2421000"/>
            <a:ext cx="302436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AR100037"/>
          <p:cNvPicPr/>
          <p:nvPr/>
        </p:nvPicPr>
        <p:blipFill>
          <a:blip r:embed="rId1"/>
          <a:stretch/>
        </p:blipFill>
        <p:spPr>
          <a:xfrm flipH="1" rot="10800000">
            <a:off x="2410560" y="4689360"/>
            <a:ext cx="1081080" cy="5097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635280" y="4581360"/>
            <a:ext cx="187164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sobilirrub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6948360" y="4653000"/>
            <a:ext cx="180036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cobil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AR100037"/>
          <p:cNvPicPr/>
          <p:nvPr/>
        </p:nvPicPr>
        <p:blipFill>
          <a:blip r:embed="rId7"/>
          <a:stretch/>
        </p:blipFill>
        <p:spPr>
          <a:xfrm>
            <a:off x="5651640" y="4797360"/>
            <a:ext cx="1224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Degradación del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180" name="Freeform 13"/>
            <p:cNvSpPr/>
            <p:nvPr/>
          </p:nvSpPr>
          <p:spPr>
            <a:xfrm>
              <a:off x="6732720" y="177336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>
              <a:off x="7553520" y="250488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"/>
            <p:cNvSpPr/>
            <p:nvPr/>
          </p:nvSpPr>
          <p:spPr>
            <a:xfrm>
              <a:off x="7704360" y="285264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184" name="Freeform 16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1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7"/>
          <p:cNvSpPr/>
          <p:nvPr/>
        </p:nvSpPr>
        <p:spPr>
          <a:xfrm>
            <a:off x="5105520" y="2852640"/>
            <a:ext cx="165564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TERMINACION DE BILIRRUBINA CON FINES DIAGNOS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BILIRRUBINA DIREC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Mide niveles de bilirrubina conju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BILIRRUBINA INDIREC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Mide niveles de Bilirrubina unida a albú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215" name="Freeform 11"/>
            <p:cNvSpPr/>
            <p:nvPr/>
          </p:nvSpPr>
          <p:spPr>
            <a:xfrm>
              <a:off x="6732720" y="177336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7553520" y="250488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704360" y="285264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219" name="Freeform 15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4"/>
          <p:cNvSpPr/>
          <p:nvPr/>
        </p:nvSpPr>
        <p:spPr>
          <a:xfrm>
            <a:off x="5076720" y="2852640"/>
            <a:ext cx="165600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2050920" y="3141720"/>
            <a:ext cx="3732480" cy="15955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251" name="Freeform 11"/>
            <p:cNvSpPr/>
            <p:nvPr/>
          </p:nvSpPr>
          <p:spPr>
            <a:xfrm>
              <a:off x="6703920" y="1760400"/>
              <a:ext cx="1139760" cy="226872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"/>
            <p:cNvSpPr/>
            <p:nvPr/>
          </p:nvSpPr>
          <p:spPr>
            <a:xfrm>
              <a:off x="7524720" y="2492280"/>
              <a:ext cx="934920" cy="100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"/>
            <p:cNvSpPr/>
            <p:nvPr/>
          </p:nvSpPr>
          <p:spPr>
            <a:xfrm>
              <a:off x="7675560" y="2840040"/>
              <a:ext cx="649440" cy="66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255" name="Freeform 15"/>
            <p:cNvSpPr/>
            <p:nvPr/>
          </p:nvSpPr>
          <p:spPr>
            <a:xfrm>
              <a:off x="4524480" y="47894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"/>
            <p:cNvSpPr/>
            <p:nvPr/>
          </p:nvSpPr>
          <p:spPr>
            <a:xfrm>
              <a:off x="4788000" y="47973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4"/>
          <p:cNvSpPr/>
          <p:nvPr/>
        </p:nvSpPr>
        <p:spPr>
          <a:xfrm>
            <a:off x="5076720" y="2852640"/>
            <a:ext cx="1656000" cy="432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539640" y="189000"/>
            <a:ext cx="8229600" cy="9363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1"/>
          <p:cNvSpPr/>
          <p:nvPr/>
        </p:nvSpPr>
        <p:spPr>
          <a:xfrm>
            <a:off x="3132000" y="3213000"/>
            <a:ext cx="1513080" cy="144000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2"/>
          <p:cNvSpPr/>
          <p:nvPr/>
        </p:nvSpPr>
        <p:spPr>
          <a:xfrm rot="20014200">
            <a:off x="3708360" y="2636640"/>
            <a:ext cx="576360" cy="649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IOSINTESIS DEL H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LUGAR DE 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Hí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Medula O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Reticulo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195640" y="3213000"/>
            <a:ext cx="3732120" cy="15955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291" name="Freeform 11"/>
            <p:cNvSpPr/>
            <p:nvPr/>
          </p:nvSpPr>
          <p:spPr>
            <a:xfrm>
              <a:off x="6703920" y="1760400"/>
              <a:ext cx="1139760" cy="226872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7524720" y="2492280"/>
              <a:ext cx="934920" cy="100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675560" y="2840040"/>
              <a:ext cx="649440" cy="660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295" name="Freeform 15"/>
            <p:cNvSpPr/>
            <p:nvPr/>
          </p:nvSpPr>
          <p:spPr>
            <a:xfrm>
              <a:off x="4500720" y="4986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4764240" y="4994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8"/>
          <p:cNvSpPr/>
          <p:nvPr/>
        </p:nvSpPr>
        <p:spPr>
          <a:xfrm rot="15972600">
            <a:off x="2949120" y="3898440"/>
            <a:ext cx="801720" cy="24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4"/>
          <p:cNvSpPr/>
          <p:nvPr/>
        </p:nvSpPr>
        <p:spPr>
          <a:xfrm rot="4645800">
            <a:off x="6338520" y="2454120"/>
            <a:ext cx="497160" cy="287280"/>
          </a:xfrm>
          <a:prstGeom prst="pi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539640" y="44280"/>
            <a:ext cx="8229600" cy="936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4932360" y="4149720"/>
            <a:ext cx="863640" cy="792000"/>
          </a:xfrm>
          <a:prstGeom prst="pi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la biosíntesis del HEMO se consideran 3 etap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osíntesis del ácid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Aminolevu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ción de Porfobilin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rsión de Porfobilinógeno en 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cdc5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ALA               (Acido </a:t>
            </a:r>
            <a:r>
              <a:rPr b="0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Aminolevulíni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3"/>
          <p:cNvGraphicFramePr/>
          <p:nvPr/>
        </p:nvGraphicFramePr>
        <p:xfrm>
          <a:off x="684360" y="2932200"/>
          <a:ext cx="53384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32200"/>
                    <a:ext cx="53384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12"/>
          <p:cNvSpPr/>
          <p:nvPr/>
        </p:nvSpPr>
        <p:spPr>
          <a:xfrm>
            <a:off x="684360" y="4797360"/>
            <a:ext cx="122364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780000" y="3933720"/>
            <a:ext cx="1728720" cy="4597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124000" y="472428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284720" y="328464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5"/>
          <p:cNvGraphicFramePr/>
          <p:nvPr/>
        </p:nvGraphicFramePr>
        <p:xfrm>
          <a:off x="5796000" y="2421000"/>
          <a:ext cx="281952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21000"/>
                    <a:ext cx="28195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27"/>
          <p:cNvSpPr/>
          <p:nvPr/>
        </p:nvSpPr>
        <p:spPr>
          <a:xfrm>
            <a:off x="755640" y="3860640"/>
            <a:ext cx="1152360" cy="64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12000" y="3141720"/>
            <a:ext cx="647640" cy="50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0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7093080" y="4508640"/>
            <a:ext cx="1366560" cy="649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A SINT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zima  alostérica mitocond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a la velocidad de síntesis de porfir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hibida por el hemo, Hemoglobina y Hemoproteí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ctivada por hormonas esteroides, eritropoyetina, etanol y barbitura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hemo inhibe la transcripción de la 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PORFOBILINO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9"/>
          <p:cNvGraphicFramePr/>
          <p:nvPr/>
        </p:nvGraphicFramePr>
        <p:xfrm>
          <a:off x="34920" y="1600200"/>
          <a:ext cx="368928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928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72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ACION DE PORFI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79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87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90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TESIS DE PROTOFORFIRIN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97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109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Irma</cp:lastModifiedBy>
  <dcterms:modified xsi:type="dcterms:W3CDTF">2013-10-22T14:53:01Z</dcterms:modified>
  <cp:revision>80</cp:revision>
  <dc:subject/>
  <dc:title>Diapositiva 1</dc:title>
</cp:coreProperties>
</file>